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2C3-4640-4348-95E2-27396CB3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AA3-6511-44D3-B44F-2BE1DB67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239-0371-4E42-A488-3909D8D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5FC-AB20-4113-A983-85328798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55CA7-5132-4107-B3E1-BE2443DA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CDFB7-2D27-4224-9233-269F6F7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261C4-9740-4FC9-A392-C6AB1EE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AF61D-6CD9-4299-B2B9-66C4140F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3B7F8-E6DD-432A-9083-1FA62DFE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55DC8-22DB-49EC-9DF3-DD6C2DD7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D1BC-C005-431D-B2B3-436E128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8C7-176B-446A-B179-57FF3E8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A3A9F-90A4-4A3C-ABC9-FA43BEC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D2C0D-08B5-47A3-8EB9-7476802D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5A8D-D5DA-49E9-A6B4-5424D7A6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08A6-48AB-4722-A8CA-4236F7B2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B1E16-481C-4760-8C21-83089EBF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FEF-5549-4CF5-8DB0-B21FC090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A5D-DEE4-443E-8C1D-0CDB53EE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597-F42F-4808-B44F-D35ADE6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761-79D6-4411-BBA9-9AD8CB4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0BC-8654-4315-8C50-5E00E3D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0D8-0CD1-48B1-BE9F-1A9048D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895-52C8-42F4-A304-F7F7922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89F-9988-4BE1-88D9-721CB4658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84A-BD18-4EA8-802E-D69C349A3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476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ACEROS FERRITOPERLITICOS  (%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 0,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060640"/>
            <a:ext cx="8280360" cy="3944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/ Pickering (pág. 266, 308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(MPa) = 54 + 3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(%Mn) + 83 . (%Si) + 354 . (%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17 . 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(MPa) = 295 + 28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%Mn) + 83 . (%Si) + 4 . (% perlita) + 8 . 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T (ºC) = -19 – 11,5 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44 . (%Si) + 700 . (%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2,2 . (% perli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977080"/>
            <a:ext cx="371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f. J. A. Pero – Sa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eros. Metalurgia Física, Selección y Dis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79280" y="189000"/>
            <a:ext cx="8964720" cy="6496920"/>
            <a:chOff x="179280" y="189000"/>
            <a:chExt cx="8964720" cy="6496920"/>
          </a:xfrm>
        </p:grpSpPr>
        <p:sp>
          <p:nvSpPr>
            <p:cNvPr id="87" name=""/>
            <p:cNvSpPr/>
            <p:nvPr/>
          </p:nvSpPr>
          <p:spPr>
            <a:xfrm>
              <a:off x="1476360" y="189000"/>
              <a:ext cx="676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ACEROS FERRITOPERLITICOS  (0,35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%C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&lt; 0,40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280" y="1844640"/>
              <a:ext cx="8964720" cy="4258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/ Pickering (pág. 332 – 333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MPa) = 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35,4 + 58,5 . %M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+ 17,4 . 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+ (1 -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(178,6 + 3,9 . S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+             + 63,1 . %Si + 425 . 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MPa) = 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246,4 + 1143 . 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+ 18,2 . 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+ (1 -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(720 + 3,5 . S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+     + 97 . %S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T (ºC) = 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46 – 11,5 . 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+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 -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335 + 5,6 . 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13,3 . p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               + 3480 . 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) + 48,7 . %Si + 762 . 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4560" y="6165720"/>
              <a:ext cx="3710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6:53:03Z</dcterms:created>
  <dc:creator>José Ovidio García</dc:creator>
  <dc:description/>
  <dc:language>en-US</dc:language>
  <cp:lastModifiedBy>José Ovidio García</cp:lastModifiedBy>
  <dcterms:modified xsi:type="dcterms:W3CDTF">2005-07-21T21:03:33Z</dcterms:modified>
  <cp:revision>13</cp:revision>
  <dc:subject/>
  <dc:title>Diapositiva 1</dc:title>
</cp:coreProperties>
</file>